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28FCE-0B14-4EFD-A02E-73F633682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71EB-F2C0-40EF-BC00-3194D99FC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19DD-8815-42A3-BAB5-CC501D1B0D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AE23-12A9-47F2-B6AC-A9BE8521B8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B27C-C563-48EE-90BF-B3F9DD9CF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2795-7121-403F-9D0B-5009D67F37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63F9-DDEE-447A-94B6-EF9313AF4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708A-85B6-4189-B2DD-036C4C2CDE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79B1-F678-447B-95EA-C4DDB014AF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CCEB-61B4-4A7C-94D2-BAB3385B23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B9ED-C783-4775-B2FE-28E7E7BA87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285B-91F3-4C3F-A598-558A609E9B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2AEA-B322-4926-A9DB-38202959F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30AE-B1AF-4CC7-A396-CD8F6BAC2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0"/>
          <p:cNvSpPr/>
          <p:nvPr/>
        </p:nvSpPr>
        <p:spPr>
          <a:xfrm>
            <a:off x="380880" y="609300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21"/>
          <p:cNvSpPr/>
          <p:nvPr/>
        </p:nvSpPr>
        <p:spPr>
          <a:xfrm>
            <a:off x="457200" y="614844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23"/>
          <p:cNvSpPr/>
          <p:nvPr/>
        </p:nvSpPr>
        <p:spPr>
          <a:xfrm>
            <a:off x="457200" y="137808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4"/>
          <p:cNvSpPr/>
          <p:nvPr/>
        </p:nvSpPr>
        <p:spPr>
          <a:xfrm>
            <a:off x="380880" y="132228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iis_rgb"/>
          <p:cNvPicPr/>
          <p:nvPr/>
        </p:nvPicPr>
        <p:blipFill>
          <a:blip r:embed="rId2"/>
          <a:stretch/>
        </p:blipFill>
        <p:spPr>
          <a:xfrm>
            <a:off x="6083280" y="298440"/>
            <a:ext cx="253692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"/>
          <p:cNvPicPr/>
          <p:nvPr/>
        </p:nvPicPr>
        <p:blipFill>
          <a:blip r:embed="rId3"/>
          <a:stretch/>
        </p:blipFill>
        <p:spPr>
          <a:xfrm>
            <a:off x="403200" y="304920"/>
            <a:ext cx="2425680" cy="53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8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fld id="{89EB7933-E357-4597-BD7F-984E357F4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115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" y="49806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202716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Processing, Summer Ter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0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1700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565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3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Affil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465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@mail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lk should last at mos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0 minutes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ress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e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ain the concepts in you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ve many illustrative exampl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41080" y="15559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with pictures rather than with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:\__Teaching\__2010_WS_Seminar_MusicSignalProcessing\Website\Tempogram.png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:\__Teaching\__2010_WS_Seminar_MusicSignalProcessing\Website\MuellerGrosche_InformatikSpektrum_withoutTime.tif"/>
          <p:cNvPicPr/>
          <p:nvPr/>
        </p:nvPicPr>
        <p:blipFill>
          <a:blip r:embed="rId2"/>
          <a:stretch/>
        </p:blipFill>
        <p:spPr>
          <a:xfrm>
            <a:off x="5580000" y="2852640"/>
            <a:ext cx="2695680" cy="269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:\__Teaching\__2010_WS_Seminar_MusicSignalProcessing\Website\music.jpg"/>
          <p:cNvPicPr/>
          <p:nvPr/>
        </p:nvPicPr>
        <p:blipFill>
          <a:blip r:embed="rId3"/>
          <a:stretch/>
        </p:blipFill>
        <p:spPr>
          <a:xfrm>
            <a:off x="1476360" y="4221000"/>
            <a:ext cx="29876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45040" y="15559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lude audio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573440" y="1628640"/>
            <a:ext cx="358920" cy="28764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79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References and Acknowled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cover_book_2"/>
          <p:cNvPicPr/>
          <p:nvPr/>
        </p:nvPicPr>
        <p:blipFill>
          <a:blip r:embed="rId1"/>
          <a:stretch/>
        </p:blipFill>
        <p:spPr>
          <a:xfrm>
            <a:off x="755640" y="1773360"/>
            <a:ext cx="2190600" cy="331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306600" y="1771560"/>
            <a:ext cx="324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üller, Mein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Retrieval for Music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, XVI. 318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illus. 39 in Color, Hard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: 978-3-540-7404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ringer.com/978-3-540-74047-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,50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49:17Z</dcterms:created>
  <dc:creator>Conny Liegl</dc:creator>
  <dc:description/>
  <dc:language>en-US</dc:language>
  <cp:lastModifiedBy>Meinard Müller</cp:lastModifiedBy>
  <dcterms:modified xsi:type="dcterms:W3CDTF">2013-05-13T12:30:13Z</dcterms:modified>
  <cp:revision>125</cp:revision>
  <dc:subject/>
  <dc:title>Slide 1</dc:title>
</cp:coreProperties>
</file>